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AAF4-7096-45CE-85DC-632C604A5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1828800"/>
            <a:ext cx="7086600" cy="182880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57400" y="4038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057400" y="49539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3D9F-4153-4FE3-8952-47F7529F3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1828800"/>
            <a:ext cx="7086600" cy="182880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05740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736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057400" y="495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37360" y="495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6E79-089E-49D9-AA39-F950BAD71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1828800"/>
            <a:ext cx="7086600" cy="182880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057400" y="4038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21360" y="4038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85680" y="4038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057400" y="4953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21360" y="4953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85680" y="4953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8AA4-89BD-4EAC-A8AF-3B5E956D1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CE2EF-94C1-406B-8F30-844E96C51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76160" y="1828800"/>
            <a:ext cx="7086600" cy="182880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057400" y="403812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12646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5AAC9-60FD-4B67-85D9-A5C667A80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76160" y="1828800"/>
            <a:ext cx="7086600" cy="182880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0574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B3C30-7BE5-4254-820B-BE94EAA5C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1828800"/>
            <a:ext cx="7086600" cy="182880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057400" y="4038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37360" y="4038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7E878-5379-4BD5-B948-291476B10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76160" y="1828800"/>
            <a:ext cx="7086600" cy="182880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A741F-25F5-44BB-9FDC-11FE55536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676160" y="1828800"/>
            <a:ext cx="7086600" cy="8478360"/>
          </a:xfrm>
          <a:prstGeom prst="rect">
            <a:avLst/>
          </a:prstGeom>
          <a:noFill/>
          <a:ln w="0">
            <a:noFill/>
          </a:ln>
          <a:effectLst>
            <a:outerShdw dist="12646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71C14-DE16-44E6-9CE2-2A2E61E22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1828800"/>
            <a:ext cx="7086600" cy="182880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05740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37360" y="4038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057400" y="495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33BAA-24A2-41E7-974B-1887B6391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76160" y="1828800"/>
            <a:ext cx="7086600" cy="182880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057400" y="403812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12646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60F2-D896-42F3-9FE7-A89B4D53D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160" y="1828800"/>
            <a:ext cx="7086600" cy="182880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057400" y="4038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736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37360" y="495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4AD34-814C-40E2-8379-7F0232D6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160" y="1828800"/>
            <a:ext cx="7086600" cy="182880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05740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3736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057400" y="49539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9AF0F-6ED4-443A-9F1D-0069A98EB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160" y="1828800"/>
            <a:ext cx="7086600" cy="182880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057400" y="4038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057400" y="49539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0C2DC-A243-4C7B-8B02-C8900F6C9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1828800"/>
            <a:ext cx="7086600" cy="182880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05740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736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057400" y="495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37360" y="495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2BFD2-2B7D-43BA-A8A4-9677833EB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76160" y="1828800"/>
            <a:ext cx="7086600" cy="182880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057400" y="4038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21360" y="4038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85680" y="4038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057400" y="4953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221360" y="4953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85680" y="4953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ADF2E-702E-437A-A854-59810D2BC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76160" y="1828800"/>
            <a:ext cx="7086600" cy="182880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0574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CC58-C153-424E-982D-3BF26F410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76160" y="1828800"/>
            <a:ext cx="7086600" cy="182880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057400" y="4038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37360" y="4038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4B51-CA3D-4C70-85C1-F9F5BDC1D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160" y="1828800"/>
            <a:ext cx="7086600" cy="182880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3B62-6350-4F26-A0EB-71273F12C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76160" y="1828800"/>
            <a:ext cx="7086600" cy="8478360"/>
          </a:xfrm>
          <a:prstGeom prst="rect">
            <a:avLst/>
          </a:prstGeom>
          <a:noFill/>
          <a:ln w="0">
            <a:noFill/>
          </a:ln>
          <a:effectLst>
            <a:outerShdw dist="12646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A611-5A9E-452A-A099-C93096706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160" y="1828800"/>
            <a:ext cx="7086600" cy="182880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05740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37360" y="4038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057400" y="495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E28E-1905-4792-B143-44ABDAC03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76160" y="1828800"/>
            <a:ext cx="7086600" cy="182880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57400" y="4038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3736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7360" y="4953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52F9-A17B-4CE5-A8D1-F3D7785C9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76160" y="1828800"/>
            <a:ext cx="7086600" cy="182880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5740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37360" y="4038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057400" y="49539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74A0-EABB-464F-99AB-707FF20DE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120" y="1218960"/>
            <a:ext cx="7162920" cy="114300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120" y="2437920"/>
            <a:ext cx="7162920" cy="3429000"/>
          </a:xfrm>
          <a:prstGeom prst="rect">
            <a:avLst/>
          </a:prstGeom>
          <a:noFill/>
          <a:ln w="0">
            <a:noFill/>
          </a:ln>
          <a:effectLst>
            <a:outerShdw dist="12646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2388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594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F90A1-659F-4708-B924-D61150489873}" type="slidenum">
              <a:rPr b="0" lang="en-US" sz="1400" spc="-1" strike="noStrike">
                <a:solidFill>
                  <a:srgbClr val="000000"/>
                </a:solidFill>
                <a:latin typeface="Trebuchet MS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1828800"/>
            <a:ext cx="7086600" cy="182880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152388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733560" y="594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1028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DC23E-E562-4B3F-B365-769C7B547DB4}" type="slidenum">
              <a:rPr b="0" lang="en-US" sz="1400" spc="-1" strike="noStrike">
                <a:solidFill>
                  <a:srgbClr val="000000"/>
                </a:solidFill>
                <a:latin typeface="Trebuchet MS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1828800"/>
            <a:ext cx="7086600" cy="182880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Very Ordinal Poetry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828800" y="4038120"/>
            <a:ext cx="6781680" cy="1752840"/>
          </a:xfrm>
          <a:prstGeom prst="rect">
            <a:avLst/>
          </a:prstGeom>
          <a:noFill/>
          <a:ln w="0">
            <a:noFill/>
          </a:ln>
          <a:effectLst>
            <a:outerShdw dist="12646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reated By Thomas J. Palumbo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The Catapult Learning Serie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PATC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76160" y="1676160"/>
            <a:ext cx="7086600" cy="53316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Very Ordinal Poetr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61760" y="4038120"/>
            <a:ext cx="8458200" cy="1219320"/>
          </a:xfrm>
          <a:prstGeom prst="rect">
            <a:avLst/>
          </a:prstGeom>
          <a:noFill/>
          <a:ln w="0">
            <a:noFill/>
          </a:ln>
          <a:effectLst>
            <a:outerShdw dist="12646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rst…I jumped out of a comfortable bed,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…Was Breck shampoo all over my head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1676160"/>
            <a:ext cx="7086600" cy="53316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Very Ordinal Poetr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61760" y="4038120"/>
            <a:ext cx="8458200" cy="1219320"/>
          </a:xfrm>
          <a:prstGeom prst="rect">
            <a:avLst/>
          </a:prstGeom>
          <a:noFill/>
          <a:ln w="0">
            <a:noFill/>
          </a:ln>
          <a:effectLst>
            <a:outerShdw dist="12646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…Pancakes at the breakfast table,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…A chewy dog bone for Mabel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1676160"/>
            <a:ext cx="7086600" cy="53316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Very Ordinal Poetr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61760" y="4038120"/>
            <a:ext cx="8458200" cy="1219320"/>
          </a:xfrm>
          <a:prstGeom prst="rect">
            <a:avLst/>
          </a:prstGeom>
          <a:noFill/>
          <a:ln w="0">
            <a:noFill/>
          </a:ln>
          <a:effectLst>
            <a:outerShdw dist="12646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…It’s bags packed and out the door,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…The mandatory stop at the candy store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1676160"/>
            <a:ext cx="7086600" cy="53316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Very Ordinal Poetr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61760" y="4038120"/>
            <a:ext cx="8458200" cy="1219320"/>
          </a:xfrm>
          <a:prstGeom prst="rect">
            <a:avLst/>
          </a:prstGeom>
          <a:noFill/>
          <a:ln w="0">
            <a:noFill/>
          </a:ln>
          <a:effectLst>
            <a:outerShdw dist="12646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…I arrive at school, once again late,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ighth…Staring at a math test marked with a great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1676160"/>
            <a:ext cx="7086600" cy="53316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Very Ordinal Poetr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4038120"/>
            <a:ext cx="8763120" cy="1219320"/>
          </a:xfrm>
          <a:prstGeom prst="rect">
            <a:avLst/>
          </a:prstGeom>
          <a:noFill/>
          <a:ln w="0">
            <a:noFill/>
          </a:ln>
          <a:effectLst>
            <a:outerShdw dist="12646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Ninth…Attending classes one and all,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enth… Pushing and shoving on the way to the mall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160" y="1676160"/>
            <a:ext cx="7086600" cy="533160"/>
          </a:xfrm>
          <a:prstGeom prst="rect">
            <a:avLst/>
          </a:prstGeom>
          <a:noFill/>
          <a:ln w="0">
            <a:noFill/>
          </a:ln>
          <a:effectLst>
            <a:outerShdw dist="25292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Very Ordinal Poetr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447920" y="3429000"/>
            <a:ext cx="7772400" cy="1828800"/>
          </a:xfrm>
          <a:prstGeom prst="rect">
            <a:avLst/>
          </a:prstGeom>
          <a:noFill/>
          <a:ln w="0">
            <a:noFill/>
          </a:ln>
          <a:effectLst>
            <a:outerShdw dist="12646" dir="5106054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fter highlighting an event from your life try chronicling a famous person’s exploits in an ordinal poem or take the sequence of a sporting event and try to put it into a similar rhyme scheme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7T01:53:13Z</dcterms:created>
  <dc:creator>Carol Kane</dc:creator>
  <dc:description/>
  <dc:language>en-US</dc:language>
  <cp:lastModifiedBy>Tom Palumbo</cp:lastModifiedBy>
  <dcterms:modified xsi:type="dcterms:W3CDTF">2009-02-26T19:52:35Z</dcterms:modified>
  <cp:revision>5</cp:revision>
  <dc:subject/>
  <dc:title>Very Ordinal Poetry</dc:title>
</cp:coreProperties>
</file>